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CAD-175C-48D2-96AB-93CE8BCC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1C0-85C8-441B-BBC1-3FCCD402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FC4-7CFB-4014-A6EA-C22B97E2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496-B21A-4D3E-B734-CECF0923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1B9-3C12-42B8-8A9D-F10C94C8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B06-445C-41D5-AA90-211B28A3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7FE-E460-458A-BA75-21235EB0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373-2461-4316-A8B2-D05788E4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59A-FF78-4281-A53B-AA6AA586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C63-E130-4E18-AF7B-A6122EB8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422-3E26-49BC-BC21-B7D066A5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CA7-0FED-43C6-9901-BFE2A9DC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57F7-1D3B-4757-BC7D-4753E04D7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aculty.evansville.edu/rl29/art105/img/picasso_3musician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hyperlink" Target="http://www.aviewoncities.com/madrid/plazadecibeles" TargetMode="External"/><Relationship Id="rId4" Type="http://schemas.openxmlformats.org/officeDocument/2006/relationships/hyperlink" Target="http://www.spanish-town-guides.com/facts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oadway"/>
              </a:rPr>
              <a:t>Spai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Caroline 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Elise Gre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indall Mor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roadway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grade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roadway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Randolp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BASIC IN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he population of Spain is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he flag has two red stripes and one yellow with a symbol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he language in Spain is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he common currency in Spain is pes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2816280" cy="203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oadway"/>
              </a:rPr>
              <a:t>Madrid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Madrid is the capital of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About 3 million people live in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Cibeles fountain is one of Madrid's most important symbols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3581280" cy="236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Physical Features/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ivers in Spain: Douro, Ebro, Guadiana, Guadalquivir, and T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The Pyrenees mountains divide Spain and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Spanish summers are hot and dry and winters are cold and 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33920" y="3890880"/>
            <a:ext cx="3962160" cy="2967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oadway"/>
              </a:rPr>
              <a:t>CUL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The week before Easter they have palm Sunday process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Important days are celebrated with fiestas, dancing, and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oadway"/>
              </a:rPr>
              <a:t>F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Meat , sausages, melons, and oranges  are very popular in S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A popular dish in Spain is Pa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3922560"/>
            <a:ext cx="3505320" cy="2935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oadway"/>
              </a:rPr>
              <a:t>Art/Monu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A statue of Christopher Columbus is in Barcel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Some famous Spanish artists are Picasso, Goya, Murillo, and Velazqu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3733920"/>
            <a:ext cx="3124440" cy="28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57600" y="3657600"/>
            <a:ext cx="4191120" cy="3200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Sports and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White water rafting is a popular sport i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Cycling, golf, skiing, tennis, and bull fight are popular sports in Sp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oadway"/>
              </a:rPr>
              <a:t>Bibliograp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1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roadway"/>
              </a:rPr>
              <a:t>Picture a country Spai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roadway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p. 6-9 12-15 22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2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roadway"/>
              </a:rPr>
              <a:t>Eye witness travel guide SPAIN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p. 2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Broadway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Websit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roadwa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roadway"/>
                <a:hlinkClick r:id="rId3"/>
              </a:rPr>
              <a:t>www.aviewoncities.com/madrid/plazadecib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2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roadway"/>
                <a:hlinkClick r:id="rId4"/>
              </a:rPr>
              <a:t>www.spanish-town-guides.com/facts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road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Broadway"/>
              </a:rPr>
              <a:t>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6:09:19Z</dcterms:created>
  <dc:creator>carolinewilson</dc:creator>
  <dc:description/>
  <dc:language>en-US</dc:language>
  <cp:lastModifiedBy>carolinewilson</cp:lastModifiedBy>
  <dcterms:modified xsi:type="dcterms:W3CDTF">2009-02-12T16:15:56Z</dcterms:modified>
  <cp:revision>8</cp:revision>
  <dc:subject/>
  <dc:title>SPAIN!!</dc:title>
</cp:coreProperties>
</file>